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090-60CF-41F9-8380-7510973A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B08B-2F1C-459A-8545-88D55C18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1A42D-CD4F-4FF7-9174-922A8839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8C1234-3479-4556-B84A-122E6D50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1B50D6-B925-4205-B361-E39E440A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CF2629-95DF-4990-AB67-5FC4D197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BD158E-9F2A-40BA-9363-4118D5DA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B87EBD-0719-4DF5-84BC-ECDC079F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5F2A6-76DC-4B61-BE22-E26F3726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4294F-0425-4F3D-845A-8184CE01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69C4E1-6089-4794-86D2-B734F539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ECB4F-6EFB-4719-8ECF-4629E6E3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B4A-9B3F-4CA7-91E0-E5A64A6E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A296B-FC77-43A6-A7E4-37D90800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F72A89-07A0-4517-B70A-C26C28E4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EE77C-18CB-4750-B09C-6DF9FE2D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76C8B-BF8E-4CA6-AB76-1C28F0FA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39A2AF-1AA6-489E-90A7-56F72688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9BEE01-7343-450B-97AC-5FD54440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4305FB-DF01-439A-AFCC-91CA4153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B6818-056A-4A25-8428-FB181208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805B15-17E7-4096-A9E6-65EF6F48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13FE5E-DA5B-418C-8E21-BF28EBC0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C086-63CB-4470-A68A-64774385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A3FDA-E9A2-4796-89DF-73D08F2E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823FC-D567-47AA-905D-C9FBFD12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82E72-C2AD-4FFA-957F-C4E55D59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B0D9A-0932-4A00-9E5A-86488AF0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CB070-0E35-4993-B701-4B713434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676C3-5D07-4B61-8CE3-D1F8ADBE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B7E00-557E-4649-BCB2-B084D209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322F8-8F29-4638-9AF0-BCC7991D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CA829-CC3D-4646-A709-F54A8F3F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64BA4-7B5F-4161-B626-D34BCB5D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9EDC-3134-4DD3-BC24-C60144C2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46A8E-6175-4047-89FC-578D19ED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31FDD-A78A-405C-A98F-742E8B25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AB09E-54D4-4519-B6B2-03D0A513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351C44-96EB-4F1F-AF4C-22824E68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9634E-262D-4850-BBB2-7E6A8E1F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2AFF32-89A4-44AD-B776-2C213B90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DF9AEB-AC4E-4BCB-AB0C-17BF9505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2EACD3-09F3-4B72-9128-3F75D52F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9A678B-50C4-43D2-8F40-678EF201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8C668-6801-4E19-8A62-506D13EA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7F72-D20A-41BD-8ED7-646C0EC4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D23F0-D0AC-4A06-BB75-9D2285C2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872998-1900-43C9-9BD1-3A919381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E53D8E-311A-49CF-A8DB-06D66DAC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E8350-F486-4AAA-A02C-D1283391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C8F296-CC27-4D47-9EFE-76D7A205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E903-46DE-4074-80B6-53DB431F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CC97-68DE-4779-B794-A9D8B684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DEAD-DA97-4272-8CD5-1EC7991C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39A0-F2B9-4EB0-9BBD-38B5FDE6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E560-7E8D-4E4B-AA81-8C2D11AC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A4B7-E658-46F8-8D55-70037991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3409-09E1-408C-8E4E-7A87EECD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D335-1986-4D30-8F4D-24D54877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D8AC-E5F6-47CF-BD36-4576846A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9BC3-0D4F-48C9-8E9D-A81816EC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30B1-3F11-4576-8748-6268DDC0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B9579-F5C5-4377-B732-55E869F3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7413F-892F-4288-B1DA-EDC33AC4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03CA6-23B8-4D21-A19B-CEAD4125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F7FA6-E11E-4B5B-897F-C6EFE52E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A48ED-1AFE-427E-A0B3-AB9F8917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C3E5-4A04-49AF-B756-81C5D277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3CB80-099A-4ACF-B03E-F52E12E7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52E94-40F0-4C7D-9699-F35B891A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57E1F-7E6B-4AD5-905C-7BB9A0D0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95DCF-E76E-478C-A00C-20292E01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DBCB5-FB7B-4C49-A4D6-3C14B9EA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F5F8D-C671-4B3F-93C5-4E3C2F2A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D0CB6-0C35-4509-AAA2-C486F273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FC741-1883-4C3A-9B0E-DED94430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7E845-3C66-477E-B89E-A7C11251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E32FE-AF9B-4A5B-9C40-899AFA01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D5F6-EF1F-41D7-BA2A-C5C0B9E1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6F215-48E6-442E-A795-B8E20540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65396-F405-4B5F-A663-6D2B7CB4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E0408-9870-42D3-ADC3-25540D64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18B8A-009F-4654-9300-59CE8365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D8B8E-977F-4AFC-864F-8FED91CF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7D6E0-5AAB-43B8-A55C-B2F23D6A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63CC7-6DFD-4CD2-A3DE-BBED75DB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936EA-A22A-4BA6-BF37-6D815B18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C842B-CCF9-40E9-A0A9-1E698F7E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ECFF0-AA3C-4911-9B49-53F8DBBA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40A0-A9E0-4D55-A931-F95D5F56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9563C-5C51-4B5A-B8A8-6A36986F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A57F8-F322-43C3-87C4-AD6F1D39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9C3F9-471E-4D10-BF03-6C0BAD5B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DF245-BDE2-4CBB-8E97-15A4F04A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11EC8-70CF-4624-9F19-2156E5AE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5F837-49CC-41CA-B3C0-6114D8DB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7C9BC-264E-4270-AE36-C5B7FF73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F7C2A-56FB-4754-BA97-1DE16423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D3E75-EB1C-430E-951E-2FD12F53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0A3BC-28CB-4243-A4E9-FF5135B0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A59C-2E54-4971-9DEA-2644F06B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0123A-1293-43CB-96D4-1D3BB8FE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058D8-1C28-4A11-8249-BD719E06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57E50-CE71-44D3-AF5E-E9B9B76E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1A1EE-4D70-4A0E-A7DB-CBFB4905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45541-1972-4636-B09B-4492B5C9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DD632-085A-432F-9FBB-C282DD49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0909A-FB4A-4FB8-8F9D-9BA6B49B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0D320-F7AD-4143-86FB-3AA1B79B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7D768-4DC1-454F-A8DC-5206F62F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F4288-F524-4ED7-B330-3D76D197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2617-9000-438E-872B-5FB133D3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C8527-6A15-4B99-ADFB-683AAE6A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90098-8FFA-45A1-B8C6-AF6FF409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0F04A-53B3-484B-8009-B7A90D57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3A393-8A8D-4411-B4BC-AE3A0D16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B0F23-931D-436B-9202-454524F6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9E14B-3EAD-4506-84F1-D24DB32B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113F6-0ED6-4E44-9AAD-59AA8858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A9152-08EB-4BEA-BB94-2911B06D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75136-98B6-4F3B-8EB0-50E2AE85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B876D-4423-4222-B0AA-062C0C33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486-4ECD-4EA1-B815-F9153A51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9B55F-52D2-40DE-A8FC-626067B5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E9AD2-C53D-4131-96D3-4B35BA64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F8CB2-3090-450A-BBDF-5DDB4649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4FD85-AC22-4FBB-86AA-41847163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2FBF3-1E45-478F-8FA4-5CAC6D62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E9C9D-84F0-4C84-9413-DA69B938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DF44D-8DE2-4633-8DA7-7D509D54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F479B-6980-46D2-8CA2-B90AC27E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D4A25-8C4A-47F4-826B-B27FFD3C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A5F97-2E49-4231-9D5B-7B494181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5B33-64E9-438D-A1E6-C50D1BCA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7E8DC-225B-43BC-94C0-997D80AB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40579-A462-47A1-A6B8-6E415589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C0992-1E38-42F3-AF16-4856E16D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1C9ED-3853-4785-934B-B96E0366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798F9-A926-4F61-A980-F11E8A12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6FFA4-BF80-4C4C-A878-F3D5C5BA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47FE5-DB3B-4206-8034-3330DFA0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7FF62-7B64-4077-9263-3062E8CA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41484-ED4C-444C-8DD6-F65AD0BC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E1024-278E-489F-8DA1-743F8D55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49F2-7ECE-4335-BD39-9449FC8104A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830B-63BF-4612-AF86-359AF5C9AD7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E1F4-3DA3-4BF2-A605-C1B383FA56E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494F-D0E9-4AE2-914F-345EA2F1CD9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7358-18BC-4C54-9032-20607779899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E3BF-CEE7-4F82-97AC-3870385FA9E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EAD6-6C3E-4000-85D1-91706539B2B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BC9C-D6B1-4841-8D1A-C37A8650CDB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8BD5-D431-42AD-85BD-F6DB6E4E3E1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8BA4-CD18-4F64-8D14-3C1C9C307D9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EB11-A6E7-4716-94B9-40EC9DCE54BB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1C7C-82B2-4A51-BA9A-EA9A868856C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allenge #7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ITHOUT TALKING or using your lips or sound to communicate. NO WRITING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t in a near perfect circle arranged by birthdate (day &amp; month)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r. only if two the same-oldest 1s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osest birthday to TODAY sits in the 12 o’clock posi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lease, leave an empty seat for October 3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ssessment – time, accuracy + “use of lips” or writing penal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minder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TE – this Friday 11/20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Completed permission form and $11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ast work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Resume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Name Ar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Princeton Review survey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Resume Evaluatio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racking Activities tip – Mrs. Yat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Next Semina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oph 1 – 11/23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oph 2 – 11/24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Juniors – Tues 12/2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eniors – Friday 11/20 or 12/5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mart starter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is smart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 someone tell you were “smart” before or after you knew? Explai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did being “smart” surprise you? Let you dow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es “smart” apply to all thing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es “smart” imply succes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’s not that I am so smart, it’s just that I stay with problems longer.”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lbert Einstei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3:54:16Z</dcterms:created>
  <dc:creator>bguenther</dc:creator>
  <dc:description/>
  <dc:language>en-US</dc:language>
  <cp:lastModifiedBy>bguenther</cp:lastModifiedBy>
  <dcterms:modified xsi:type="dcterms:W3CDTF">2009-12-04T20:36:44Z</dcterms:modified>
  <cp:revision>7</cp:revision>
  <dc:subject/>
  <dc:title>Challenge #7</dc:title>
</cp:coreProperties>
</file>